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E1C4-7EBA-4B64-846B-579523ABB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EB0D-185A-4F75-B9B9-BF38382D9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FC9401-AC67-4264-98A6-9E1CC2F5E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99407F-B9F8-44A5-9205-0FBCC73C0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9E0118-9223-43E3-A948-931F4A065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970A9D-2B2A-411D-8DC6-123D3E87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F9CF87-EEA2-44AC-8C93-3B92A762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95ABCE-E5E6-4F3E-A948-511F3A28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6A16BC-401F-4C73-B9C7-FB1C4626B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C40775-FD5B-431C-B45D-FFCD8F705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7E5AC0-58D4-4C9A-B4E2-DB4BBECD1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5A3FAF-4224-4E7D-AB5C-68A6CD41D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D483-5094-4350-8B57-495ACC174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39296E-DCC0-491D-A0BC-B9AC7B43D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EFF447-08F5-4725-9456-3D47665D0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A41B32-FC1E-42B5-AC46-AB7E8CF1B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16313F-8399-439B-97EC-CFB52837F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5B7465-5999-4FBE-B772-0FA523516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8BCBF9-924A-44F2-A970-B5F2963F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E04714-F4BA-4A54-9074-3C2DC2F6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7274C2-814F-435D-9F22-B8505C25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1D957C-E14F-4A54-8090-94EA8FEEE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D5A20A-F742-4E38-A573-697B851A0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F6AA-30AE-45BC-8B09-0499F6998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947521-E3B3-4D1A-9340-BF25B86FE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E31E6B-E8B9-4D20-84F3-20E76ED58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4D0871-5D43-4BD3-A3AD-42A6A5331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1CE6A5-41D7-4CC3-A796-D77F98D7C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921235-5E71-48D5-9511-7DAE8F97C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9420B2-F2A2-4D74-AFF0-07D88DF68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203E77-14B9-4BC7-B9AA-1F862466E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1C04F3-A140-4D19-B6AB-A8E9C1A8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4DC278-83C9-47F3-8F5A-D9CF30AB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ADC3B0-35C7-4380-918B-A23687D8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54567-1C34-4A6C-A917-1CB1593BE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A3D27C-7BFD-4571-A575-1E8093B5B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D60D7D-3707-4D47-B639-ED40C97A7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27F203-E42F-48B7-A47B-B50F8514B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5C87B5-56CA-4A6F-AE61-EDFB85967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37D27D-DACC-443D-854B-B66BB2200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559F40-CD96-445A-9B18-E063BE2E7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1A3658-3839-448C-8A6E-98C0DE566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871156-7A05-44D3-A51C-558760653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35B7FD-8AA2-4804-968F-81BCDCA3E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25D473-A3ED-4D70-9D23-0789EDE3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74D9A-F999-4D8C-9BB7-14C1ED227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53D1C6-2815-4A4C-A6B9-03167DA3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31A506-D04A-4BAD-9B4C-873291F3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BDD898-64E8-4B6A-9CC2-A10BFC0B8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78CD20-2CAE-40EF-A1C9-FBF729F9E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BBBF8A-5322-44A9-BCCD-D3E73D515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2A60A0-DF96-490A-AA75-EDCCEDB87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65426E-16B8-44BF-AC10-101191378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863719-6868-46BE-AC2A-51199A5B7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153582-D6BF-44DA-BAD8-061825AC4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42AF93-ED96-4211-98F5-FF145C38C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8C630-CE5A-40CC-98D6-94AD163E8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186641-3F0C-4B64-9CEC-F9F7FA286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FD1F0C-9267-40D2-86BE-18315807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7131C8-9B3F-4990-8678-C529708A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8E5C22-F1BF-4A21-9F7F-AC9E7D2C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0F6480-ECA3-4834-B200-6C61AFFEB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E981A2-069F-4665-8399-CFA266F7F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03736A-61F4-4FDD-81EC-E089C8320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4B478A-7204-4FE1-84A1-47ED82098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0F9E73-1EDD-44CE-8F6A-98C0C480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2BD3EB-3141-4CFD-9093-3B6208EA2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49AF3-AFB5-4580-B64D-D628E0374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7AE9A3-9AC7-489A-A57C-65A09BF7E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1D3F89-1F8D-40AB-8C24-81A2EE5A6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AC90B4-C7F2-46DB-9C0E-9A1363159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E3F7E6-5DE8-4B7E-AE20-9E733FC9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0D08BC-1A55-44D6-B957-A5CE46B1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8F93FC-AA51-49B6-8CB7-DB8F3C0A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8A4987-065B-48D7-AD5A-BB9DC17BF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3F056A-D28D-4D6D-A5D2-AEE3E5B95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020165-6D95-4FB4-BD07-BE5A9D57A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FF6151-C924-407B-8B92-0D7B4DE09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E6B86-AA09-49DA-935C-ACE450CBB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C64C69-AAE8-4CC4-8477-561800929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598A0D-13C2-42D5-BCA4-3856E9435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BD19B0-A1D7-4401-AB75-A960BD8B3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0FB991-171B-49A8-85A6-B65E548A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2DD248-C32D-4203-A70A-70927DC24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4DC175-388A-44E1-BF7C-16F1671C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D0F10F-9FB8-445D-953D-C32CF313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44D6CA-8249-4EAE-8C80-197E6E54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3547DA-7FA7-4EA8-A724-991A8D9AB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16ABFD-F201-4BE6-9545-A605B4E85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26B7B-544C-48DF-8758-4F1E448B6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426CA1-A318-40EB-BC9F-86162FF05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223EE3-BBAC-4752-95AD-AA344F16A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51267C-21DE-4BA4-BBC4-A56D263BB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C9360B-36A1-4009-BFA2-6E5BA64D6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4F5EB9-7802-46F1-B4BC-9B8872155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CC97F5-F172-406B-8637-BAEA32474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A8D728-336C-4A76-AE29-B177DF5B4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049574-5142-441F-84F3-AF37E78E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2DF9F9-EF6F-4AAE-ACDA-7A83D2A9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B28600-D4D9-4FB7-A34A-577A6C1A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7AAEF-2ADE-45D4-97AE-8D80293B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FDC7C6-10E9-42A1-BE84-C36C78EC1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B6582C-7ECE-45C7-A852-F386FED84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DB4BC2-D43C-44A6-B438-8A7327416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7C3E1D-3D82-4784-A659-09F3647FF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30EF53-89EF-48BC-B121-9A5B4DC0C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FC7C62-31FF-4407-9439-678ECD478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C67713-F258-4EAA-927C-7116185FC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3FCC54-CA39-4EA7-8C13-C8935C3B8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251F56-4AAC-4DF1-BA16-67CD1DB08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F09217-1E8A-4305-9475-B164C12F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4058-08AF-41AA-9E1C-609FED0D6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D71B0-4523-4911-AD06-B4012380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EE04CC-B07C-4F86-9F54-321A3C9A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C8254F-5DE1-4244-A54D-72E8C7E9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7727B4-2CE8-49F7-9672-FDFCF29F6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F6185D-C05C-4527-ADFD-42AAA9618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39FB61-0C48-466A-90EC-9F9562301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FB4261-6647-419F-8316-A126000BD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AB134F-CC48-4C30-8C11-7AF11CCCE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279609-AACE-4517-B01F-B9394BEC4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F21F4C-ECB5-4589-BC70-46FCBDEFB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09F899-F452-4C1E-8807-9DD211D3B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B2D4F-3238-42B4-959B-4804148A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837DF7-F04E-4AEE-809C-9F1DE221F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525361-1C0A-49FE-80EB-BB432245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0B3850-C3B9-4D88-A47F-899DBF2F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417809-FA84-43EB-ADB3-E175177E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47504C-8A65-41C6-BA80-E19B35A0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4C6BAC-6EF4-44CC-A078-4CFF7280C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A364CC-0CA3-41F1-858B-3B787B711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96380E-64C1-4507-8B0E-C0C8A3FD3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413C5A-86E2-4DB3-B6E7-9831DD0F3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8279B3-E2E5-4678-AAAB-38EED9266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3AA72-013E-4255-A9B8-D0994ED47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EFA404-8018-4934-8960-5A796994F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A9ACAE-C6BF-4D7D-A10F-F410CDAE2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B9576F-0E69-4811-9E74-B05572D20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B47E2D-2696-4FDF-88AA-9180D2E5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7DD8AC-0BAB-4B32-B3FF-5EC37456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927BB7-6E63-4209-802B-1439E7F6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B01926-1CBC-409B-91BD-DDE9FCC93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969F05-F28D-427C-A516-69B70C6C7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FFCA23-2F75-4F5C-B72D-ED44275DA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8965AA-94DC-4B7C-AFC5-106EA761C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87B12-25D9-4781-B403-7D1A0175C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960F64-6960-4C08-97A1-4670A4036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C185E4-2AD9-4F00-9974-2EE0EA61D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4593F9-1AEA-4982-A700-90506DC60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11A6EF-5046-481F-A6E5-3BF872760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61C065-7275-454A-80BC-42C683FD5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1E8EDC-2942-4BE8-95FE-D8FD9BE4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B7A065-D5B1-4F05-83B0-4BC24D76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02132D-FA91-447F-8ED7-60151052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2D91E0-F5D4-4DA1-81A2-82BCB4FCB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62B80E-449C-4F17-91C1-F497DB884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45D1E-EC5A-4559-9520-37E34035E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1CBFA5-3F2D-4D71-BF91-65D866681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05E07F-1966-4137-91D8-47F23E9F8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EB16CC-2939-46B9-8779-5202AD746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AC23A9-ED00-4630-926F-9E0629555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2B134A-9688-43EF-B72C-452E2CE7F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E0243C-749B-4E57-99CC-354C3413E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D93A1B-CFF0-4063-9DBD-CD891C89B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6F0C56-C015-439B-8570-46D5DFF2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479D1D-4AAA-40EE-ABE9-1E1766B1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A1D9B3-21AE-4F66-A865-E48B3125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0509A-D8CD-4764-8288-3EC58BB48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B09B8D-68D7-4860-B137-2C26CE123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21E40C-F354-4F66-A389-1F3AF1846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B737C8-E4FC-4428-8276-A274D1CD6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3F839-0C98-419E-ACD4-FCFA8B7C3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D31EB-FD19-4FFD-A59A-E3B6D0FD5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BA1D6-0DFC-47FD-A7EA-B38619F29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498EA-FF3F-4AF6-A680-E1B062C12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1ABD-C1D7-461F-9249-FC6EC48D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A1CC0-9CD3-4A66-B003-3687F1975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F9E1B-A90A-411C-B89A-62525985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379C8-81F1-4893-9EFC-A1B3B1AC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B742C-E58F-49D0-93A3-5BEEB833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9BAA3-8F74-4FB3-9E64-CC40A9148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327B2-DB14-4017-8D01-C5A3B6826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2C9A3-4A51-4939-8B41-17A3C0E86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C8CD8-F83F-445F-BE66-5C7A5C4AB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D0134-3388-421E-B9FD-0AE9FD24C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BE30E-AA91-491A-BF83-96030616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E8CE-4D19-4148-8983-8E35E8BB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737E4-93FF-4640-9342-E52679FDC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44D6D-3426-417D-B04B-16C301AEC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21BCB-C8B1-439A-84C4-F3F397B7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A3C4E-6661-4661-B167-B7A84ABC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89840-EAFD-4D01-8876-0E9BB4FD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BB4AB-B5D2-4A4E-9698-1A899A4E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15F53-F17D-421F-9146-402B71D11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38D2F-394F-423A-B177-F0969F1B4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62942-E9F1-4555-9059-2AA44F171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49BD1-78BC-464F-BF95-23B8F6CAA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E685-D29B-49B1-A4E2-1F43D60C3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BB00A-9805-47CF-89EB-F7E7BDBE7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C3DCE-CB6A-456C-A80D-EB9A6A082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9B8A9-DE53-47B8-B57A-FF65C1F3F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A8383-AE20-49E1-8C37-EBAB9E983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F81E8-507E-4354-A8C6-D75C3D7A5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2E58E-FE93-4F83-9DE4-B17E2EBA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2AE37-864A-42E1-9961-753B5224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71DFD-FA18-4E7E-AF77-0187247C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BA1A0-54CE-4595-8562-E808C43C1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97719-36E8-46AE-8C5B-05E414337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64CF-115A-4A9E-B3C1-54C03BA20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1C9C2-5D79-4D58-AA62-BE4A9DCD5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A1475-270D-4386-BABE-5970BBC0E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1AB3C-7883-401C-9172-F1670CB3E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9F6EC-9BC8-4A0E-B264-348C71918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3B76A-C88E-4A12-A150-EE6497605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324A5-0792-4886-A849-0978C7109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3C700-855B-453A-A4CF-5AD5B48FA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E2E833-512F-4359-843C-8AF32A4B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6C0F0A-6815-4D7E-8877-E862BA08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1731A-6413-4B53-A7DD-EFE02D5B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499A-A21C-4DED-94D3-CEB454AD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B8B7F-BBD2-4A59-A6A3-5A3235774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85FB9-6CEF-491F-8DE0-AD736DAD6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A2CCD-2CF2-4A10-9635-7472EDD2C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0104F-6E9C-44E1-A183-9532DB490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B6C9C7-2C1E-4DF1-9522-E3468AF0B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9F4E9-E6E1-4E49-AEBB-F8FACC3BA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C5694-4F48-4C04-9AF8-F1C10DA8C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911A8-9D42-4670-BBCB-10EF69F0E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9333BC-9EFB-44AE-8AC0-A1AF35A8A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C945B4-5395-41D2-BAD8-0AF52708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DE21-866F-4F79-90F5-7E095AF0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5DD5A2-1812-43BC-AF0A-492134F4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A56E73-9876-4070-A439-B936D45F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50187-23F2-4D25-B845-7BFF85D1C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B734E5-FF66-43BF-AE33-E970F6EBF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DA53BB-CC76-4A14-9AC1-4F9F2D8C8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B2B5B3-F0F7-4AB5-BCEE-E87F7A51E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E1ADD0-8239-45D1-83C2-4A536AEDD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8C74B4-FC92-4905-84C5-6B3E033E6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6172D8-F4AF-4CD3-945D-B9A1A8485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75BD6A-526C-4A8C-AB90-D485801CB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CA07-D311-4901-A28B-85C70D61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6F195C-0BAF-4AE7-914C-5C3FB9634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7E09D0-A094-4753-B8C0-5B8BD9E2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0EAD99-79F8-4EA6-9E23-2F3D81B5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8B5D6-2C36-4C73-8A9F-FAAF878F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4730C5-77E7-46B7-9BC8-EE94CC4E5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130B7B-581B-457E-80A1-84A47B08C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DC3B80-35AC-4512-832C-9029766FB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44827A-C563-4EC7-995A-0B8503E4D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6F3D9C-D927-4344-B8A8-03A030CBB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6D7488-A163-4374-819F-E33B1DB5F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BE5D9-3728-4339-9B12-7C7EEC491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75EAB-055F-429A-822B-66CA4FFC1D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0B7B7-840D-4B1B-9895-E59B54952A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3ED5-335D-4638-BD16-59F0AD2BEC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C0CBD-6693-408A-B514-E5054161A9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B2B2B-B59A-4C8B-BC30-054318030C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F9D80-FF7F-47AF-9FF6-4BE0FF612D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70230-5C48-434A-9257-E271BCC55B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B21B1-6749-4E07-8D9D-FB392EA3D2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CC79E-8DCF-4DBD-BFC2-51DD0D4955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1CCF2-02F7-4418-85CB-ADE5270511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6D45A-9557-47BD-9615-44021BCB68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72993-31BA-4432-A0C3-1F22472CF8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A6349-0E7F-4938-A91C-0DF07C970D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E85E0-EAB2-4B90-8DC3-0A2C943052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6585C-8EBA-4E07-8192-0E54F3E50F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14335-BC8F-4D2A-B881-7D7059D6A6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AE010-32D5-4AE5-B784-FEEE70605B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1D70B-3A90-4D8D-8D3D-B37D65A511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4823D-7124-4D06-88E0-B019EBBC62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680B3-E8F0-4CD2-A1D8-580B846EB0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38026-FA8D-4DEE-AAAF-FD32F83F38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24EB7-4ED2-43FB-A3C7-19AEC10BAF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B8FC9-E458-40C3-A126-B6336ED2C0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83F06-C12E-41F1-AE31-54BD32DFB1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370D5-2AFC-4117-8B44-E25D946B33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3FA66-4C06-49AA-94FB-064E7E47CC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820A6-96DD-4306-BD00-A0D0FED880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1692E-9F8F-4541-B165-0C66752306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0D151-6553-40D3-8228-ACE886069D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EE0B9-A73F-4C48-90D6-C1A386B7EA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FD519-D8ED-4897-AAB6-5F92A9FAA5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6F8E1-4565-4DDC-B86C-C8C2B6D43C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A6425-B531-4EFC-BFE1-A9E712C8B5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608FF-C520-4527-8871-24A7CA0BE4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297AD-1CF5-4588-B413-D253C14197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9D07E-9B9A-49E3-9DDB-5861EA096A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E97E3-EC9B-45EF-B083-E4BAA857F2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8E0FF-0ED2-4507-8A28-E4AC74AA53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A029F-DAC0-4B9E-8F55-AB7A5E0708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500040" y="3357720"/>
            <a:ext cx="8286840" cy="4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6" name="Picture 2" descr=""/>
          <p:cNvPicPr/>
          <p:nvPr/>
        </p:nvPicPr>
        <p:blipFill>
          <a:blip r:embed="rId1"/>
          <a:stretch/>
        </p:blipFill>
        <p:spPr>
          <a:xfrm>
            <a:off x="824040" y="1157400"/>
            <a:ext cx="7495920" cy="520056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3" descr=""/>
          <p:cNvPicPr/>
          <p:nvPr/>
        </p:nvPicPr>
        <p:blipFill>
          <a:blip r:embed="rId2"/>
          <a:stretch/>
        </p:blipFill>
        <p:spPr>
          <a:xfrm>
            <a:off x="1455840" y="1125360"/>
            <a:ext cx="379440" cy="43848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3" descr=""/>
          <p:cNvPicPr/>
          <p:nvPr/>
        </p:nvPicPr>
        <p:blipFill>
          <a:blip r:embed="rId3"/>
          <a:stretch/>
        </p:blipFill>
        <p:spPr>
          <a:xfrm>
            <a:off x="1476360" y="2343240"/>
            <a:ext cx="379440" cy="43812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3" descr=""/>
          <p:cNvPicPr/>
          <p:nvPr/>
        </p:nvPicPr>
        <p:blipFill>
          <a:blip r:embed="rId4"/>
          <a:stretch/>
        </p:blipFill>
        <p:spPr>
          <a:xfrm>
            <a:off x="1476360" y="3500280"/>
            <a:ext cx="379440" cy="43848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3" descr=""/>
          <p:cNvPicPr/>
          <p:nvPr/>
        </p:nvPicPr>
        <p:blipFill>
          <a:blip r:embed="rId5"/>
          <a:stretch/>
        </p:blipFill>
        <p:spPr>
          <a:xfrm>
            <a:off x="1476360" y="5300640"/>
            <a:ext cx="3794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857160" y="1195560"/>
            <a:ext cx="7429680" cy="44668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3" descr=""/>
          <p:cNvPicPr/>
          <p:nvPr/>
        </p:nvPicPr>
        <p:blipFill>
          <a:blip r:embed="rId2"/>
          <a:stretch/>
        </p:blipFill>
        <p:spPr>
          <a:xfrm>
            <a:off x="6227640" y="2349360"/>
            <a:ext cx="1008360" cy="43812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3" descr=""/>
          <p:cNvPicPr/>
          <p:nvPr/>
        </p:nvPicPr>
        <p:blipFill>
          <a:blip r:embed="rId3"/>
          <a:stretch/>
        </p:blipFill>
        <p:spPr>
          <a:xfrm>
            <a:off x="5651640" y="3614760"/>
            <a:ext cx="2089080" cy="4381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3" descr=""/>
          <p:cNvPicPr/>
          <p:nvPr/>
        </p:nvPicPr>
        <p:blipFill>
          <a:blip r:embed="rId4"/>
          <a:stretch/>
        </p:blipFill>
        <p:spPr>
          <a:xfrm>
            <a:off x="6372360" y="4869000"/>
            <a:ext cx="8636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3" name="Picture 1" descr=""/>
          <p:cNvPicPr/>
          <p:nvPr/>
        </p:nvPicPr>
        <p:blipFill>
          <a:blip r:embed="rId1"/>
          <a:stretch/>
        </p:blipFill>
        <p:spPr>
          <a:xfrm>
            <a:off x="1343160" y="1557360"/>
            <a:ext cx="6457680" cy="37432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3" descr=""/>
          <p:cNvPicPr/>
          <p:nvPr/>
        </p:nvPicPr>
        <p:blipFill>
          <a:blip r:embed="rId2"/>
          <a:stretch/>
        </p:blipFill>
        <p:spPr>
          <a:xfrm>
            <a:off x="5580000" y="1886040"/>
            <a:ext cx="1656000" cy="43812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3" descr=""/>
          <p:cNvPicPr/>
          <p:nvPr/>
        </p:nvPicPr>
        <p:blipFill>
          <a:blip r:embed="rId3"/>
          <a:stretch/>
        </p:blipFill>
        <p:spPr>
          <a:xfrm>
            <a:off x="5796000" y="3162240"/>
            <a:ext cx="647640" cy="43812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3" descr=""/>
          <p:cNvPicPr/>
          <p:nvPr/>
        </p:nvPicPr>
        <p:blipFill>
          <a:blip r:embed="rId4"/>
          <a:stretch/>
        </p:blipFill>
        <p:spPr>
          <a:xfrm>
            <a:off x="5384880" y="4483080"/>
            <a:ext cx="147636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9" name="Picture 1" descr=""/>
          <p:cNvPicPr/>
          <p:nvPr/>
        </p:nvPicPr>
        <p:blipFill>
          <a:blip r:embed="rId1"/>
          <a:stretch/>
        </p:blipFill>
        <p:spPr>
          <a:xfrm>
            <a:off x="409680" y="1305000"/>
            <a:ext cx="8324640" cy="424800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3" descr=""/>
          <p:cNvPicPr/>
          <p:nvPr/>
        </p:nvPicPr>
        <p:blipFill>
          <a:blip r:embed="rId2"/>
          <a:stretch/>
        </p:blipFill>
        <p:spPr>
          <a:xfrm>
            <a:off x="3132000" y="2708280"/>
            <a:ext cx="1008360" cy="43812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3" descr=""/>
          <p:cNvPicPr/>
          <p:nvPr/>
        </p:nvPicPr>
        <p:blipFill>
          <a:blip r:embed="rId3"/>
          <a:stretch/>
        </p:blipFill>
        <p:spPr>
          <a:xfrm>
            <a:off x="4500720" y="3284640"/>
            <a:ext cx="1800000" cy="43812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3" descr=""/>
          <p:cNvPicPr/>
          <p:nvPr/>
        </p:nvPicPr>
        <p:blipFill>
          <a:blip r:embed="rId4"/>
          <a:stretch/>
        </p:blipFill>
        <p:spPr>
          <a:xfrm>
            <a:off x="1979640" y="3860640"/>
            <a:ext cx="1476360" cy="43848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3" descr=""/>
          <p:cNvPicPr/>
          <p:nvPr/>
        </p:nvPicPr>
        <p:blipFill>
          <a:blip r:embed="rId5"/>
          <a:stretch/>
        </p:blipFill>
        <p:spPr>
          <a:xfrm>
            <a:off x="5580000" y="3860640"/>
            <a:ext cx="2232000" cy="4384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3" descr=""/>
          <p:cNvPicPr/>
          <p:nvPr/>
        </p:nvPicPr>
        <p:blipFill>
          <a:blip r:embed="rId6"/>
          <a:stretch/>
        </p:blipFill>
        <p:spPr>
          <a:xfrm>
            <a:off x="1763640" y="5033880"/>
            <a:ext cx="1476360" cy="43812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3" descr=""/>
          <p:cNvPicPr/>
          <p:nvPr/>
        </p:nvPicPr>
        <p:blipFill>
          <a:blip r:embed="rId7"/>
          <a:stretch/>
        </p:blipFill>
        <p:spPr>
          <a:xfrm>
            <a:off x="5003640" y="5033880"/>
            <a:ext cx="147636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8" name="Picture 1" descr=""/>
          <p:cNvPicPr/>
          <p:nvPr/>
        </p:nvPicPr>
        <p:blipFill>
          <a:blip r:embed="rId1"/>
          <a:stretch/>
        </p:blipFill>
        <p:spPr>
          <a:xfrm>
            <a:off x="714240" y="1143000"/>
            <a:ext cx="7743960" cy="539100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3" descr=""/>
          <p:cNvPicPr/>
          <p:nvPr/>
        </p:nvPicPr>
        <p:blipFill>
          <a:blip r:embed="rId2"/>
          <a:stretch/>
        </p:blipFill>
        <p:spPr>
          <a:xfrm>
            <a:off x="4067280" y="1876320"/>
            <a:ext cx="1477800" cy="43812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3" descr=""/>
          <p:cNvPicPr/>
          <p:nvPr/>
        </p:nvPicPr>
        <p:blipFill>
          <a:blip r:embed="rId3"/>
          <a:stretch/>
        </p:blipFill>
        <p:spPr>
          <a:xfrm>
            <a:off x="4219560" y="2467080"/>
            <a:ext cx="2584440" cy="43812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3" descr=""/>
          <p:cNvPicPr/>
          <p:nvPr/>
        </p:nvPicPr>
        <p:blipFill>
          <a:blip r:embed="rId4"/>
          <a:stretch/>
        </p:blipFill>
        <p:spPr>
          <a:xfrm>
            <a:off x="3059280" y="3038400"/>
            <a:ext cx="2584440" cy="43812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3" descr=""/>
          <p:cNvPicPr/>
          <p:nvPr/>
        </p:nvPicPr>
        <p:blipFill>
          <a:blip r:embed="rId5"/>
          <a:stretch/>
        </p:blipFill>
        <p:spPr>
          <a:xfrm>
            <a:off x="3367080" y="3638520"/>
            <a:ext cx="2583000" cy="43812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3" descr=""/>
          <p:cNvPicPr/>
          <p:nvPr/>
        </p:nvPicPr>
        <p:blipFill>
          <a:blip r:embed="rId6"/>
          <a:stretch/>
        </p:blipFill>
        <p:spPr>
          <a:xfrm>
            <a:off x="1908000" y="4941720"/>
            <a:ext cx="432000" cy="4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6" name="Picture 1" descr=""/>
          <p:cNvPicPr/>
          <p:nvPr/>
        </p:nvPicPr>
        <p:blipFill>
          <a:blip r:embed="rId1"/>
          <a:stretch/>
        </p:blipFill>
        <p:spPr>
          <a:xfrm>
            <a:off x="857160" y="1500120"/>
            <a:ext cx="7419960" cy="457200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3" descr=""/>
          <p:cNvPicPr/>
          <p:nvPr/>
        </p:nvPicPr>
        <p:blipFill>
          <a:blip r:embed="rId2"/>
          <a:stretch/>
        </p:blipFill>
        <p:spPr>
          <a:xfrm>
            <a:off x="1332000" y="1484280"/>
            <a:ext cx="431640" cy="43812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3" descr=""/>
          <p:cNvPicPr/>
          <p:nvPr/>
        </p:nvPicPr>
        <p:blipFill>
          <a:blip r:embed="rId3"/>
          <a:stretch/>
        </p:blipFill>
        <p:spPr>
          <a:xfrm>
            <a:off x="1332000" y="3860640"/>
            <a:ext cx="431640" cy="4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1" name="Picture 1" descr=""/>
          <p:cNvPicPr/>
          <p:nvPr/>
        </p:nvPicPr>
        <p:blipFill>
          <a:blip r:embed="rId1"/>
          <a:stretch/>
        </p:blipFill>
        <p:spPr>
          <a:xfrm>
            <a:off x="785880" y="1214280"/>
            <a:ext cx="7505640" cy="474372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3" descr=""/>
          <p:cNvPicPr/>
          <p:nvPr/>
        </p:nvPicPr>
        <p:blipFill>
          <a:blip r:embed="rId2"/>
          <a:stretch/>
        </p:blipFill>
        <p:spPr>
          <a:xfrm>
            <a:off x="1332000" y="1335240"/>
            <a:ext cx="431640" cy="43812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3" descr=""/>
          <p:cNvPicPr/>
          <p:nvPr/>
        </p:nvPicPr>
        <p:blipFill>
          <a:blip r:embed="rId3"/>
          <a:stretch/>
        </p:blipFill>
        <p:spPr>
          <a:xfrm>
            <a:off x="1332000" y="3645000"/>
            <a:ext cx="4316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6" name="Picture 1" descr=""/>
          <p:cNvPicPr/>
          <p:nvPr/>
        </p:nvPicPr>
        <p:blipFill>
          <a:blip r:embed="rId1"/>
          <a:stretch/>
        </p:blipFill>
        <p:spPr>
          <a:xfrm>
            <a:off x="714240" y="673200"/>
            <a:ext cx="7763040" cy="615636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3" descr=""/>
          <p:cNvPicPr/>
          <p:nvPr/>
        </p:nvPicPr>
        <p:blipFill>
          <a:blip r:embed="rId2"/>
          <a:stretch/>
        </p:blipFill>
        <p:spPr>
          <a:xfrm>
            <a:off x="2484360" y="2451240"/>
            <a:ext cx="3527640" cy="43812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3" descr=""/>
          <p:cNvPicPr/>
          <p:nvPr/>
        </p:nvPicPr>
        <p:blipFill>
          <a:blip r:embed="rId3"/>
          <a:stretch/>
        </p:blipFill>
        <p:spPr>
          <a:xfrm>
            <a:off x="2195640" y="3011400"/>
            <a:ext cx="3528720" cy="43812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3" descr=""/>
          <p:cNvPicPr/>
          <p:nvPr/>
        </p:nvPicPr>
        <p:blipFill>
          <a:blip r:embed="rId4"/>
          <a:stretch/>
        </p:blipFill>
        <p:spPr>
          <a:xfrm>
            <a:off x="2535120" y="4699080"/>
            <a:ext cx="3529080" cy="43812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3" descr=""/>
          <p:cNvPicPr/>
          <p:nvPr/>
        </p:nvPicPr>
        <p:blipFill>
          <a:blip r:embed="rId5"/>
          <a:stretch/>
        </p:blipFill>
        <p:spPr>
          <a:xfrm>
            <a:off x="2370240" y="6113520"/>
            <a:ext cx="352908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3" name="Picture 1" descr=""/>
          <p:cNvPicPr/>
          <p:nvPr/>
        </p:nvPicPr>
        <p:blipFill>
          <a:blip r:embed="rId1"/>
          <a:stretch/>
        </p:blipFill>
        <p:spPr>
          <a:xfrm>
            <a:off x="357120" y="1071720"/>
            <a:ext cx="84106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27:05Z</dcterms:modified>
  <cp:revision>1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